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9A5-849B-42ED-AB47-B9511B14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D4E-2110-4A92-8B71-D3ECC7DC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22B-0F9F-493F-92AF-40CE6693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E0F-8AEA-45D0-9A2C-D815A2C6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F74-635B-44A0-868C-D31D601B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9FC-42AA-4878-9D44-9A21E870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BC8-1FC0-4762-BEC2-EE423F52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EB4-A439-4048-9399-B197CCC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D5F-8699-4D88-AD1D-EEA7EB5F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B4D-5231-4E9B-8576-C1C956FC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BE3-F883-4338-8174-F0F2B9B4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E6C-9F3A-4AF5-B71C-4AD1D704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6CF-7F45-448E-995D-A285B1D6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modot.mo.gov/northeast/programs/conegame/images/wrong_answer.gif&amp;imgrefurl=http://www.modot.mo.gov/northeast/programs/conegame/7c.htm&amp;usg=__AE2n7_HX2cBsfxqM3lFgSX2OmIY=&amp;h=100&amp;w=100&amp;sz=5&amp;hl=en&amp;start=11&amp;um=1&amp;itbs=1&amp;tbnid=6PgGKzYYMNjpEM:&amp;tbnh=82&amp;tbnw=82&amp;prev=/images%3Fq%3Dwrong%2Banswer%2Bimage%26um%3D1%26hl%3Den%26sa%3DN%26tbs%3Disch:1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modot.mo.gov/northeast/programs/conegame/images/wrong_answer.gif&amp;imgrefurl=http://www.modot.mo.gov/northeast/programs/conegame/7c.htm&amp;usg=__AE2n7_HX2cBsfxqM3lFgSX2OmIY=&amp;h=100&amp;w=100&amp;sz=5&amp;hl=en&amp;start=11&amp;um=1&amp;itbs=1&amp;tbnid=6PgGKzYYMNjpEM:&amp;tbnh=82&amp;tbnw=82&amp;prev=/images%3Fq%3Dwrong%2Banswer%2Bimage%26um%3D1%26hl%3Den%26sa%3DN%26tbs%3Disch:1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modot.mo.gov/northeast/programs/conegame/images/wrong_answer.gif&amp;imgrefurl=http://www.modot.mo.gov/northeast/programs/conegame/7c.htm&amp;usg=__AE2n7_HX2cBsfxqM3lFgSX2OmIY=&amp;h=100&amp;w=100&amp;sz=5&amp;hl=en&amp;start=11&amp;um=1&amp;itbs=1&amp;tbnid=6PgGKzYYMNjpEM:&amp;tbnh=82&amp;tbnw=82&amp;prev=/images%3Fq%3Dwrong%2Banswer%2Bimage%26um%3D1%26hl%3Den%26sa%3DN%26tbs%3Disch:1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.edu/franklin/scientst/electric.html" TargetMode="External"/><Relationship Id="rId3" Type="http://schemas.openxmlformats.org/officeDocument/2006/relationships/hyperlink" Target="http://www.kidsnewsroom.org/elmer/infoCentral/frameset/inventors/franklin/index.html" TargetMode="External"/><Relationship Id="rId4" Type="http://schemas.openxmlformats.org/officeDocument/2006/relationships/hyperlink" Target="http://www.youtube.com/watch?v=e3HDeesg6Lk" TargetMode="External"/><Relationship Id="rId5" Type="http://schemas.openxmlformats.org/officeDocument/2006/relationships/hyperlink" Target="http://russell.gresham.k12.or.us/Colonial_America/Betsy_Ross.html" TargetMode="External"/><Relationship Id="rId6" Type="http://schemas.openxmlformats.org/officeDocument/2006/relationships/hyperlink" Target="http://www.brainyquote.com/quotes/authors/w/william_penn.html" TargetMode="External"/><Relationship Id="rId7" Type="http://schemas.openxmlformats.org/officeDocument/2006/relationships/hyperlink" Target="http://www.funtrivia.com/en/subtopics/William-Penn-268147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" Target="slide5.xml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5min.com/Video/Benjamin-Franklin-Biography-120001981" TargetMode="External"/><Relationship Id="rId4" Type="http://schemas.openxmlformats.org/officeDocument/2006/relationships/image" Target="../media/image7.jpeg"/><Relationship Id="rId5" Type="http://schemas.openxmlformats.org/officeDocument/2006/relationships/slide" Target="slide11.xml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ushistory.org/betsy/flagstar.html" TargetMode="External"/><Relationship Id="rId4" Type="http://schemas.openxmlformats.org/officeDocument/2006/relationships/image" Target="../media/image9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1809720" cy="216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0764200">
            <a:off x="456840" y="114264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"/>
              </a:rPr>
              <a:t>Historic Figures of Pennsylv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5334120"/>
            <a:ext cx="3810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By: Matthew DeFa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Summer 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ITC 5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08040" y="468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562720"/>
            <a:ext cx="16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EGIN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167616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029200" y="2438280"/>
            <a:ext cx="1523880" cy="2210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58000" y="106668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7621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ISTE 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550880"/>
            <a:ext cx="7839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eativity and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demonstrate creative thinking, construct knowledge, and develop innovative products and processes using technology.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apply existing knowledge to generate new ideas, products, or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create original works as a means of personal or group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use models and simulations to explore complex systems and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esearch and Information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apply digital tools to gather, evaluate, and use information.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plan strategies to guide i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locate, organize, analyze, evaluate, synthesize, and ethically use information from a variety of sourc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valuate and select information sources and digital tools based on the appropriateness to specific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echnology Operations an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demonstrate a sound understanding of technology concepts, systems, and operations.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understand and use technology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select and use applications effectively and produ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6104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7400" y="6858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Quiz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523880"/>
            <a:ext cx="4114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Ben Franklin’s most important discoveries were in the topic of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4290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429000"/>
            <a:ext cx="3429000" cy="76212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cea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5638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hip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7400" y="6094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Quiz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1523880"/>
            <a:ext cx="4114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asked Betsy Ross to make the first American Fl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4290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429000"/>
            <a:ext cx="3429000" cy="76212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inco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5638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6094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Quiz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1523880"/>
            <a:ext cx="4114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ity did William Penn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4290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429000"/>
            <a:ext cx="3429000" cy="76212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257800"/>
            <a:ext cx="3352680" cy="7621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9504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ri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486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hiladelph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638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ittsbur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895480" y="685800"/>
            <a:ext cx="312444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"/>
              </a:rPr>
              <a:t>Great Job You Are Correct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666880" y="2730600"/>
            <a:ext cx="3505320" cy="3365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29240" y="6186600"/>
            <a:ext cx="4923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lick to Select Another Famous Pennsylva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5345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5146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057400" y="1066680"/>
            <a:ext cx="48006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Good Try…..But Wrong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9" action="ppaction://hlinksldjump"/>
          </p:cNvPr>
          <p:cNvSpPr/>
          <p:nvPr/>
        </p:nvSpPr>
        <p:spPr>
          <a:xfrm>
            <a:off x="2666880" y="5410080"/>
            <a:ext cx="3657600" cy="838440"/>
          </a:xfrm>
          <a:custGeom>
            <a:avLst/>
            <a:gdLst>
              <a:gd name="textAreaLeft" fmla="*/ 914400 w 3657600"/>
              <a:gd name="textAreaRight" fmla="*/ 2743200 w 365760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95480" y="685800"/>
            <a:ext cx="312444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"/>
              </a:rPr>
              <a:t>Great Job You Are Correct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666880" y="2730600"/>
            <a:ext cx="3505320" cy="3365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6480" y="6132600"/>
            <a:ext cx="4923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lick to Select Another Famous Pennsylva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534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5146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57400" y="1066680"/>
            <a:ext cx="48006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Good Try…..But Wrong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9" action="ppaction://hlinksldjump"/>
          </p:cNvPr>
          <p:cNvSpPr/>
          <p:nvPr/>
        </p:nvSpPr>
        <p:spPr>
          <a:xfrm>
            <a:off x="2666880" y="5410080"/>
            <a:ext cx="3657600" cy="838440"/>
          </a:xfrm>
          <a:custGeom>
            <a:avLst/>
            <a:gdLst>
              <a:gd name="textAreaLeft" fmla="*/ 914400 w 3657600"/>
              <a:gd name="textAreaRight" fmla="*/ 2743200 w 365760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95480" y="685800"/>
            <a:ext cx="312444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"/>
              </a:rPr>
              <a:t>Great Job You Are Correct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666880" y="2730600"/>
            <a:ext cx="3505320" cy="3365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10160" y="6172200"/>
            <a:ext cx="4923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lick to Select Another Famous Pennsylva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8534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5146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57400" y="1066680"/>
            <a:ext cx="48006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Good Try…..But Wrong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9" action="ppaction://hlinksldjump"/>
          </p:cNvPr>
          <p:cNvSpPr/>
          <p:nvPr/>
        </p:nvSpPr>
        <p:spPr>
          <a:xfrm>
            <a:off x="2666880" y="5410080"/>
            <a:ext cx="3657600" cy="838440"/>
          </a:xfrm>
          <a:custGeom>
            <a:avLst/>
            <a:gdLst>
              <a:gd name="textAreaLeft" fmla="*/ 914400 w 3657600"/>
              <a:gd name="textAreaRight" fmla="*/ 2743200 w 365760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365760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2" action="ppaction://hlinksldjump"/>
              </a:rPr>
              <a:t>Famous People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3" action="ppaction://hlinksldjump"/>
              </a:rPr>
              <a:t>Frank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4" action="ppaction://hlinksldjump"/>
              </a:rPr>
              <a:t>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5" action="ppaction://hlinksldjump"/>
              </a:rPr>
              <a:t>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6" action="ppaction://hlinksldjump"/>
              </a:rPr>
              <a:t>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7" action="ppaction://hlinksldjump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8" action="ppaction://hlinksldjump"/>
              </a:rPr>
              <a:t>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9" action="ppaction://hlinksldjump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"/>
                <a:hlinkClick r:id="rId10" action="ppaction://hlinksldjump"/>
              </a:rPr>
              <a:t>Addition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676520" y="304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8520" y="1447920"/>
            <a:ext cx="423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i.edu/franklin/scientst/electri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2000" y="182880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idsnewsroom.org/elmer/infoCentral/frameset/inventors/frankli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14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e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362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etsy 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7160" y="2819520"/>
            <a:ext cx="509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e3HDeesg6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76040" y="3246480"/>
            <a:ext cx="6991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ssell.gresham.k12.or.us/Colonial_America/Betsy_Ros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962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William P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8960" y="4419720"/>
            <a:ext cx="668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rainyquote.com/quotes/authors/w/william_pen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funtrivia.com/en/subtopics/William-Penn-26814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8380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057400"/>
            <a:ext cx="2210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enjami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057400"/>
            <a:ext cx="16002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illiam P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219320" y="2514600"/>
            <a:ext cx="16761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61040" y="2438280"/>
            <a:ext cx="183996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9880" y="4114800"/>
            <a:ext cx="13716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Betsy 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809880" y="4495680"/>
            <a:ext cx="1395360" cy="20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4582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9640" y="547560"/>
            <a:ext cx="536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entury"/>
              </a:rPr>
              <a:t>Benjamin Frankl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4920" y="6063840"/>
            <a:ext cx="37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nny saved is a penny earned”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140120"/>
            <a:ext cx="164656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Founding Fathers of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rinter, scientist, inventor, civic activist and diplom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He made many discoveries and theories regarding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Developed the idea of an American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1480" y="4600440"/>
            <a:ext cx="30099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038480"/>
            <a:ext cx="180504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4267080"/>
            <a:ext cx="10666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on the picture of Ben to learn mo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3200400"/>
            <a:ext cx="1752480" cy="114300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ke the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38280" y="54756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"/>
              </a:rPr>
              <a:t>Betsy 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95680" y="3608280"/>
            <a:ext cx="4229280" cy="28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9480" y="3734280"/>
            <a:ext cx="3916080" cy="120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85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lick on the Star below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earn how to make a 5-Poi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 in One “Snip” of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you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scisso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28640" y="5113440"/>
            <a:ext cx="1495440" cy="136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3600" y="1219320"/>
            <a:ext cx="803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Washington, Robert Morris,  and George Ro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ed Betsy to sew the first flag. This meeting occu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er home some time late in May 17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Betsy, General Washington showed her a rough desig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ag that included a six-pointed star. Betsy, a standout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ssors, demonstrated how to cut a five-pointed sta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a single sn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essed, the committee entrusted Betsy with making our first fla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762120"/>
            <a:ext cx="1752480" cy="114300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k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39625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4716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"/>
              </a:rPr>
              <a:t>William Pen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2920" y="1063080"/>
            <a:ext cx="860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illiam Penn is known as the founder of Pennsylv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and designed the city of Philadelph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He is also known as a famous Quaker and for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'Great Treaty‘ with the Delaware Tri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enn was well-liked because he was a peaceful 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ho tried to help Native Americans and Colonists l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together happi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946200">
            <a:off x="7097760" y="471456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14800" y="4753080"/>
            <a:ext cx="25146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on this picture of “Tishcohan” and complete the journal activity descri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20480400">
            <a:off x="590040" y="4800600"/>
            <a:ext cx="1390680" cy="1341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9680" y="4800600"/>
            <a:ext cx="1752840" cy="114300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ak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4114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1297080"/>
            <a:ext cx="533376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6000" y="5029200"/>
            <a:ext cx="87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n your journal, describe this picture in your own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Be sure to include who you think is in this pictu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hich one is William Pen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What do you think is happening in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577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Journ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5345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9960" y="304812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ilaprintshop.com/pamaps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70188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jenningsk12.net/WE/peimann/socialstudies/SymbolsofAmerica/libertybell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" y="1995480"/>
            <a:ext cx="80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crapetv.com/News/News%20Pages/usa/images-4/benjamin-frankl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7720" y="4586400"/>
            <a:ext cx="83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nofthesouth.net/revolutionary-war/patriots/pictures/robert-morri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0320" y="1143000"/>
            <a:ext cx="58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hebsreport.files.wordpress.com/2009/08/pen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440" y="342900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etsyrossfacts.com/images/betsy-ros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880" y="23623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betsy/more/weisgerbe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9120" y="42670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betsy/flagst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447920"/>
            <a:ext cx="91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railoftears.files.wordpress.com/2008/04/william-penn-treat-with-indians-benjamin-wes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7000" y="487692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loggingfromscratch.com/wp-content/uploads/2008/08/trophy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2160" y="228600"/>
            <a:ext cx="65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4880" y="487440"/>
            <a:ext cx="59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, Text and Video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920" y="2743200"/>
            <a:ext cx="71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min.com/Video/Benjamin-Franklin-Biography-12000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720" y="5181480"/>
            <a:ext cx="64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larnavigator.net/inventors/benjamin_frankli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560" y="541008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xroads.virginia.edu/~CAP/penn/pnintr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400" y="56530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betsy/flagst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120" y="594360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history.org/penn/bi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43434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8480" y="304920"/>
            <a:ext cx="6581520" cy="3682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it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able of Conten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amous Peop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red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d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9144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"/>
              </a:rPr>
              <a:t>PDE 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880" y="2048400"/>
            <a:ext cx="68263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2.6 A Identify and explain the political and cultural contributions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groups to Pennsylvania history from Beginnings to 18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bitants (e.g., Native Americans, Europeans, Afric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itary Leaders (e.g., Anthony Wayne, Oliver H. Perry, John Muhlenbe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Leaders (e.g., William Penn, Hannah Penn, Benjamin Frankli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ltural and Commercial Leaders (e.g., Robert Morris, John Bartram, Albert Gallat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ovators and Reformers (e.g., Society of Friends, Richard Allen, Sybilla Ma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692600"/>
            <a:ext cx="78390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.5 B Write multi-paragraph informational pieces (e.g., essays, descriptions, letters, reports, instru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 Include cause and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 Develop a problem and solution when appropriate to the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 Use relevant graphics (e.g., maps, charts, graphs, tab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trations, photograph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story 8.2 History of Pennsyl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4267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ing, Writing, and Listening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4114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2:18:41Z</dcterms:created>
  <dc:creator>Parkland School District</dc:creator>
  <dc:description/>
  <dc:language>en-US</dc:language>
  <cp:lastModifiedBy>Parkland School District</cp:lastModifiedBy>
  <dcterms:modified xsi:type="dcterms:W3CDTF">2010-06-05T19:12:01Z</dcterms:modified>
  <cp:revision>16</cp:revision>
  <dc:subject/>
  <dc:title>Slide 1</dc:title>
</cp:coreProperties>
</file>